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6F82-1DFA-4AAE-A781-4D46995C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ACFA-A3B2-4D1C-A04F-C99CA43F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95A9-374B-4EF1-9321-31604011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BAF6-9F38-4862-AA96-01D93F92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5B6A-6E75-46C0-8349-D1555BFA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6A8D-A788-4FA8-AFCE-BD328269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C62B-2F52-4D58-98D5-D9A269A1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55DA-6674-438F-B24F-6DDD65E6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E039-11F0-4FEC-82FB-8C1ED650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417B-E6EC-4116-B263-35BA6979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442F-1DE8-4D80-8F60-0F6D87EE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5ACB-5227-47C0-BAD9-7A63C0F0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ACA5-D020-4888-A91D-15756337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0C7E-9203-49A7-A6D0-673CFB2C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F3C4-38F8-496B-A52B-16890F9A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D707-5A74-4052-8B99-BBE9D4E7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92D6-2EA6-412C-BDD0-07528CD8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5C7D1-F0E4-4476-A450-AA024481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A656E-234B-450F-A803-C7F2FE3E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49619-8584-4C9F-915C-9DE6CA63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898F0-B9AA-4BC0-AD1D-C0D78FFF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3A25A-B111-47E4-8293-A7AB0212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F541-AE0D-4AC9-B6D2-8BDC4F9B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9F754-9ABD-44EC-B4D3-C1B61E0C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AF053-FADF-43D4-B4A8-5AAC9C63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9F2CA-CE31-42D0-A35C-8E11AC1B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96CF1-97B5-432C-90E2-4D6496F1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ADD01-3466-4FDF-B810-5E7D57D0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96777-8E9A-465D-90FD-95FACB09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768F4-6AF2-4FF3-9757-5CE85524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97641-249A-4572-8BF8-D67AEF9A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C14FC-E4F5-406B-9EC3-043B5E35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727C9-E4FF-42F4-9B18-7D2F9D5C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75ED-6689-478A-AD7C-403942DC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EB30D-8D52-4D8B-BD7A-4FFA3012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5277B-DBA9-4229-BEC1-03ED0E5E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8BEAB-A3EB-47A0-84E4-6B682E76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5C8E3-6299-40F5-A67E-884C0BF5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953E5-0462-4189-A9E4-49D1674A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5EAEA-BC83-4656-94AF-259625EC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FCA8B-2E06-4513-8CA6-BE7953DD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9D591-34A1-4630-97B6-34A507F35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095C2-B727-410C-B8AA-46F52023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071EB-97AA-44E0-8C76-36B8D27A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0EE8-2786-4847-B16C-7753A678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DF81F-CC3B-4CAF-8181-CE493A1E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3F56D-EFBA-40AE-99BD-20F128A7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32DC5-D124-4E4F-A736-6D190C12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FAE0C-E129-4015-9DBD-34B977C2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17260-15F6-4BAD-9B8E-FB473D06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6CCC0-7F80-4275-8E80-9C28670D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92E42-29FB-433B-8D54-7277EEC4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46BDB-7D21-4B31-A1B2-2FE6F848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D76A8-3326-4F11-881B-240D6345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1EB56-E28F-42C1-8C56-05E79B20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1303-2D57-4A89-890F-597A198D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D709E-4B25-4C8A-96FA-0F89B589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0A3ED-6AF4-4213-8D9B-37CFFEC6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0A505-F433-4838-8ABA-758D9346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5BF8D-6314-47DF-B18F-146272A6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81FA8-6ED3-4C57-AF16-9C9DC693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42E34-179E-43ED-8A28-076E93B2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20628-AB84-456D-93CA-92FB4AAC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EEEFA-6A56-44E3-8825-F07D36E5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48B18-8D5D-4694-80ED-F134D19B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0F9BC-3A0B-4ED4-894B-41EADBC4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D2B7-706D-4316-B80B-F8F3E040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CAFD9-A80B-4A4E-B3D9-ED655310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48579-4443-4F40-9A67-1EA2BA60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79075-4CC7-475C-8BFB-0FB50179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1B5CE-F623-4E7A-A98F-EB0C22A6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ABD64-1EC6-4099-93DD-2460BA17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278F3-974A-4667-AE9A-FED24A36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6B2BD-D156-4B33-B9E4-22F90E79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A3FF9-1590-4681-9A60-7A08AD3D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14202-473A-4F3D-ADA9-79EA9DCA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D85FC-7F93-4BC2-924B-452F0865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1AF6-EEED-4CF2-94A8-7E5ACEEB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EB46E-9D88-4E27-BF43-066920A6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DEB53-78C7-4BA8-9E0A-2156E0C0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DF576-BE1A-42B2-A1F1-84851F23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B0352-44F9-4802-9289-7BDE17E2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E41FA-C685-41DC-8524-7A4BE3CB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5D71B-B493-4D1B-B924-B2779394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08151-13C5-4974-AA05-341BBE89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1095F-F5B0-48B6-98A2-0105AB4B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52427-56FD-48D7-B8B7-639D2A2A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EC1B1-7308-4B0D-BC23-23B883B2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E6D3-6096-46B3-A770-81E038E5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9C234-D775-4142-9CD5-DFCBEE0F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8B1BB-C1CB-4029-A89B-879E878F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E1C73-4865-4043-B63C-92C09006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2641C-9C47-41E3-980C-194F7FBF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084BD-752F-4017-A91F-DA1ED7DD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A55A6-1948-489F-9991-69D774EA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CE84B-380C-4291-9346-1DA28EE4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533C-0CB8-4170-AF36-68D7246655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EF5B-7AFD-4542-B1C0-3F6B3453E4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A7E1-DA84-4A38-A5F6-AFEA072676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4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67BF-86E9-4CD2-8C1E-D22BE495CB6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5EB7-83F2-4FBE-9D91-5714189006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3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8A2B-AB0E-4088-87FB-D6DFA38FBD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9B28-44A3-455C-A570-055288650C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4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3712-C874-44C6-9243-37C7A47FDDE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ttachments-blog.tut.by/4426/files/2009/01/03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.foto.radikal.ru/0705/8d/196aedbedb99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Урок-путешествие</a:t>
            </a:r>
            <a:br>
              <a:rPr sz="5700"/>
            </a:b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3352680" y="5562360"/>
            <a:ext cx="5639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злова И.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ОУСОШ №8 г.Старая Русса Новгородской об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7" name="WordArt 5"/>
          <p:cNvSpPr txBox="1"/>
          <p:nvPr/>
        </p:nvSpPr>
        <p:spPr>
          <a:xfrm>
            <a:off x="2209680" y="33526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натоки рыб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нимательна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Какая рыба в Амазонке самая опасная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Какие рыбы имеют оружие на носу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Название каких рыб состоят из трёх букв ? К каки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яда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х относят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Давно уже замечено , что большинство видов акул находятся в движении с первого до последнего дня своей жизни и только некоторые неподвижно отдыхают на дне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) Тело рыб обтекаемой формы . Голова их сразу переходит в туловище , а шеи нет вообще . Хвост у рыб  очень мускулистый и массивный 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) На свежей или вяленной рыбе можно убедиться   , что её позвоночник легко гнётся вправо и влево , но при попытки согнуть его в вертикальной плоскости у вас ничего не получится. Как вы это объясните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) Сельские жители вырыли котлован и заполнили его водой можно ли запустить туда рыб ? Ответ обоснуйте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Головоломка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«Живое ископаемое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09480" y="2133720"/>
          <a:ext cx="4191120" cy="310824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89"/>
          <p:cNvSpPr/>
          <p:nvPr/>
        </p:nvSpPr>
        <p:spPr>
          <a:xfrm>
            <a:off x="5715000" y="2590920"/>
            <a:ext cx="2819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йдите начал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оловоломки 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 непрерывно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инии прочитайте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акую рыбу и почем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зывают живым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скопаемы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бобщить знания учащихся по теме «Рыбы», проверить их качество, развить познавательный, мыслительный интерес к биологии и коммуникабельность ученик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5028840"/>
            <a:ext cx="3810240" cy="56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9ddcd"/>
                </a:solidFill>
                <a:latin typeface="Arial"/>
              </a:rPr>
              <a:t>Л.Н. Толсто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ЗНАНИЯ ТОЛЬКО ТОГДА ЗНАНИЯ , КОГДА ОНИ ПРИОБРЕТЕНЫ УСИЛИЯМИ СВОЕЙ МЫСЛИ , А НЕ ПАМЯТЬЮ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танция «Загадочная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гадайте загадки. К каким классам относятся рыбы, о которых  пойдет речь и назови признаки классов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рачун и забияка живет в воде, кости на спине, и щука не проглотит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человек, не зверь, а с усам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 нее во рту пила. Под водой она жила. Всех пугала, всех глотала. А теперь в котел попала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 зубастой трехметровой рыбкой знакомство было бы ошибко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95680" y="277560"/>
            <a:ext cx="41148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Занимательна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5" name="Picture 4" descr="Картинка 21 из 1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609480"/>
            <a:ext cx="3200400" cy="30355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Картинка 2 из 700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1295280"/>
            <a:ext cx="5216400" cy="1820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Картинка 15 из 6364"/>
          <p:cNvPicPr/>
          <p:nvPr/>
        </p:nvPicPr>
        <p:blipFill>
          <a:blip r:embed="rId5"/>
          <a:stretch/>
        </p:blipFill>
        <p:spPr>
          <a:xfrm>
            <a:off x="152280" y="3809880"/>
            <a:ext cx="3962520" cy="2509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Картинка 3 из 3323"/>
          <p:cNvPicPr/>
          <p:nvPr/>
        </p:nvPicPr>
        <p:blipFill>
          <a:blip r:embed="rId6"/>
          <a:stretch/>
        </p:blipFill>
        <p:spPr>
          <a:xfrm>
            <a:off x="4419720" y="3505320"/>
            <a:ext cx="41148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f3f2d9"/>
                </a:solidFill>
                <a:latin typeface="Arial Black"/>
              </a:rPr>
              <a:t>Экологическая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da"/>
                </a:solidFill>
                <a:latin typeface="Verdana"/>
              </a:rPr>
              <a:t>1.</a:t>
            </a: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Пруд постигла беда : произошёл сброс нефти . Поверхность пруда покрылась тонкой радужной плёнкой . Плёнка не оказала влияния мальков из икры , но затем способствовала их гибели . Почему нефтяная плёнка опасна для мальков ?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2.В ручье , берега которого были покрыты лесом , обитала форель. Через некоторое время после того , как лес вырубили , форели в ручье не стало. Как можно объяснить этот факт ?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6e6da"/>
                </a:solidFill>
                <a:latin typeface="Verdana"/>
              </a:rPr>
              <a:t>3. Водоём  в небольшой степени был загрязнён радиоактивными веществами . Проведённые лабораторные анализы показали , что хищные рыбы являются самыми загрязнёнными организмами в этом водоёме. Как можно объяснить этот факт ?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Прав ли был ученик , сказав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бы зимой спят с закрытыми глазами ?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чему 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Определите , какие виды рыбы здесь зашифрованы и определите к какому отряду они относятся ?  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авлтпо                         г) аск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шаку                           д) сду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цтеун                          е) атшрп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5" descr="Картинка 17 из 2143"/>
          <p:cNvPicPr/>
          <p:nvPr/>
        </p:nvPicPr>
        <p:blipFill>
          <a:blip r:embed="rId1"/>
          <a:stretch/>
        </p:blipFill>
        <p:spPr>
          <a:xfrm>
            <a:off x="2362320" y="3962520"/>
            <a:ext cx="1676160" cy="11030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Картинка 20 из 2394"/>
          <p:cNvPicPr/>
          <p:nvPr/>
        </p:nvPicPr>
        <p:blipFill>
          <a:blip r:embed="rId2"/>
          <a:stretch/>
        </p:blipFill>
        <p:spPr>
          <a:xfrm>
            <a:off x="6172200" y="365760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Картинка 34 из 558"/>
          <p:cNvPicPr/>
          <p:nvPr/>
        </p:nvPicPr>
        <p:blipFill>
          <a:blip r:embed="rId3"/>
          <a:stretch/>
        </p:blipFill>
        <p:spPr>
          <a:xfrm>
            <a:off x="2362320" y="5181480"/>
            <a:ext cx="1676160" cy="12369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4"/>
          <a:stretch/>
        </p:blipFill>
        <p:spPr>
          <a:xfrm>
            <a:off x="6172200" y="525780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Была зима - такая, что с ветв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мочком белым падал вороб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кованные в ледяные глыб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чных глубинах задыхались рыб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чему зимой может происходить замор ( удушье )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Очнувшись от зимней спячки , рыбы стремятся попасть в участок водоёма с быстрым течением воды . Почему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вестн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учаи вылова рыбаками крупных , нормально упитанных щук , которые были совершенно слепые. Почему отсутствие зрения не сказалось существенно на жизни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) В старинных документах имеются сведенья , что Пётр Первый запретил звонить в колокола во время нереста лещей. Это вызвало недовольство у духовенства .Какими соображениями руководствовался  Пётр Первый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9632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танция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Литературная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386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Закончи пословиц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а бы рыба , 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ешь спать на берегу , не 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в реке - ещё не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мелка , д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ожу во все заливы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и </a:t>
            </a:r>
            <a:r>
              <a:rPr b="0" lang="ru-RU" sz="3600" spc="-1" strike="noStrike">
                <a:solidFill>
                  <a:srgbClr val="000000"/>
                </a:solidFill>
                <a:latin typeface="comic"/>
              </a:rPr>
              <a:t>щ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кой-нибудь поживы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лю я край родных о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ё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ршит камыш, горит кос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вижу как плыву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. Куда идут  они куда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уд и щу</a:t>
            </a:r>
            <a:r>
              <a:rPr b="0" lang="ru-RU" sz="2400" spc="-1" strike="noStrike">
                <a:solidFill>
                  <a:srgbClr val="000000"/>
                </a:solidFill>
                <a:latin typeface="Calisto MT"/>
              </a:rPr>
              <a:t>п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Отваги пол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учок таранил носом вол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5" descr="Картинка 15 из 3061"/>
          <p:cNvPicPr/>
          <p:nvPr/>
        </p:nvPicPr>
        <p:blipFill>
          <a:blip r:embed="rId1"/>
          <a:stretch/>
        </p:blipFill>
        <p:spPr>
          <a:xfrm>
            <a:off x="5105520" y="838080"/>
            <a:ext cx="3429000" cy="2035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"/>
          <p:cNvPicPr/>
          <p:nvPr/>
        </p:nvPicPr>
        <p:blipFill>
          <a:blip r:embed="rId2"/>
          <a:stretch/>
        </p:blipFill>
        <p:spPr>
          <a:xfrm>
            <a:off x="4572000" y="4724280"/>
            <a:ext cx="41148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2T18:32:1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